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772-0D79-4F8E-8A91-6678E836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627-5002-4931-A9E1-5FFF24FC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DC4-9226-42D0-A323-203569FB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AD1-C210-4EBB-8342-3E040283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08C-B9B1-4B11-B4DA-49D41145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3F1-30C8-45BD-A71B-79B8F3C8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14C-CC2C-478F-9AA0-A23E9AC1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574-712A-4693-83CE-69218161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D75-78BA-487D-A22C-6BF6D431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CEF-145C-4FFF-9F50-B8BB9053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98A-4ACA-4E7C-B593-98E6D07D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9C7-AA7B-483C-A090-EBAF09A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EF7A-55A3-4EF7-97FC-CB26C696F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76320"/>
            <a:ext cx="6629400" cy="6629400"/>
            <a:chOff x="1143000" y="76320"/>
            <a:chExt cx="6629400" cy="6629400"/>
          </a:xfrm>
        </p:grpSpPr>
        <p:sp>
          <p:nvSpPr>
            <p:cNvPr id="42" name=""/>
            <p:cNvSpPr/>
            <p:nvPr/>
          </p:nvSpPr>
          <p:spPr>
            <a:xfrm>
              <a:off x="1143000" y="76320"/>
              <a:ext cx="6629400" cy="6629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495680" y="152280"/>
              <a:ext cx="0" cy="647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19320" y="342900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37:54Z</dcterms:created>
  <dc:creator>Dina Winterton</dc:creator>
  <dc:description/>
  <dc:language>en-US</dc:language>
  <cp:lastModifiedBy>Dina Winterton</cp:lastModifiedBy>
  <dcterms:modified xsi:type="dcterms:W3CDTF">2010-03-24T18:42:17Z</dcterms:modified>
  <cp:revision>4</cp:revision>
  <dc:subject/>
  <dc:title>Slide 1</dc:title>
</cp:coreProperties>
</file>